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FB64-BFDD-4A22-B58A-625F086030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ée : 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numéro de diapositive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E55CDC0-DD5E-4927-A4A9-4C6610EA54A9}" type="slidenum">
              <a:rPr b="0" lang="fr-FR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7E7-E76E-486B-BEED-CDC2DBE9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2F3-77B8-41B6-9889-7DA56F10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ED0A-15B8-40B0-8770-E6616FC6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FF28-7275-4538-95D0-145E1057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7EBC-446C-4861-8ACB-9B7303BA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013-9D25-45E1-98D0-31AE6E00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532-3C24-4FFD-83C1-17E29517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CF2E-EDF1-456E-B789-4085EACD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A4C-5B77-4702-A5BA-9F84A29C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103F-1443-4926-B2F1-B4539203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2A0F-95A4-439D-9FD3-53EFA8E4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1BD-7211-488D-9C2D-3E9987AB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33E7-36A9-48BC-9875-E90860BCE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16C7-9B2A-46CB-AC9E-E4DB7EC31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solidFill>
            <a:srgbClr val="0b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angement climatique et élévation du niveau de la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500280"/>
            <a:ext cx="9144000" cy="2783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4"/>
          <p:cNvSpPr/>
          <p:nvPr/>
        </p:nvSpPr>
        <p:spPr>
          <a:xfrm>
            <a:off x="324000" y="1052640"/>
            <a:ext cx="84438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ériode 1870-2000 : élévation moyenne constatée de 18 cm (1,38 mm/a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ions GIEC fondées sur la dilatation des océ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ion « extrême » incluant l’accélération de la fonte des g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6:14:03Z</dcterms:created>
  <dc:creator>sebastien.cosnier</dc:creator>
  <dc:description/>
  <dc:language>en-US</dc:language>
  <cp:lastModifiedBy>sebastien.cosnier</cp:lastModifiedBy>
  <dcterms:modified xsi:type="dcterms:W3CDTF">2013-04-11T06:16:40Z</dcterms:modified>
  <cp:revision>2</cp:revision>
  <dc:subject/>
  <dc:title>Diapositive 1</dc:title>
</cp:coreProperties>
</file>